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F62-93C5-435F-AAAE-488E90BA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B96-A58E-4BC9-96E8-8FE4CA23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40F-1991-44D0-AEF7-1C86ABB6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438-0193-49E9-9D3A-14F32F88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BD6-9A47-4B7D-AA17-CE5FDF96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FA76-C0FE-4D33-9435-270B8D11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B190-C74C-4B1A-BE2B-56CDF723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59D-733D-4B92-8385-7F07F25C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7D1-4ABD-4E18-9A78-7F2355E7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30F-97F4-4CE6-A6E3-61BE25B1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06D4-3513-48E6-AC4E-843E5C05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E43-1FDA-4ADF-9457-E6FD9E9F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F2D4-8B09-4C16-BA1F-6EA178088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urlz MT"/>
              </a:rPr>
              <a:t>La Ropa De Tempora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857840" cy="3408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66880" y="54100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urlz MT"/>
              </a:rPr>
              <a:t>By Penny Kournio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2381040" cy="147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762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urlz MT"/>
              </a:rPr>
              <a:t>El Invi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2438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la lleva una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or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la bufan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az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72200" y="3733920"/>
            <a:ext cx="1924200" cy="2371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6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lleva una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su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ros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76720" y="1143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urlz MT"/>
              </a:rPr>
              <a:t> </a:t>
            </a:r>
            <a:r>
              <a:rPr b="1" lang="en-US" sz="3600" spc="-1" strike="noStrike">
                <a:solidFill>
                  <a:srgbClr val="ff3399"/>
                </a:solidFill>
                <a:latin typeface="Curlz MT"/>
              </a:rPr>
              <a:t>El Otoñ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1852560"/>
            <a:ext cx="2438640" cy="1500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971800" y="2209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nza lleva la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blu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s anorilla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641600" cy="2133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66680" y="457200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a lleva los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vesti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zapa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Addana lleva los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sudade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blo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grese. Adril lleva la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blo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los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je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2063520" cy="2714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33720" y="838080"/>
            <a:ext cx="487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6094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urlz MT"/>
              </a:rPr>
              <a:t>La Primav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1337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das y Katia lleva los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pijan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s az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Narciso Rodriguez for DesigNation Wool-Blend Coat"/>
          <p:cNvPicPr/>
          <p:nvPr/>
        </p:nvPicPr>
        <p:blipFill>
          <a:blip r:embed="rId3"/>
          <a:stretch/>
        </p:blipFill>
        <p:spPr>
          <a:xfrm>
            <a:off x="6781680" y="39625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81080" y="46483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z lleva los la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bata de ba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533520"/>
            <a:ext cx="61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UGG - Garrapata II Bombskin Leather Jacket"/>
          <p:cNvPicPr/>
          <p:nvPr/>
        </p:nvPicPr>
        <p:blipFill>
          <a:blip r:embed="rId2"/>
          <a:stretch/>
        </p:blipFill>
        <p:spPr>
          <a:xfrm>
            <a:off x="380880" y="2209680"/>
            <a:ext cx="1684440" cy="1962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057400" y="29718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ra lleva los el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bri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1617480" cy="1628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43000" y="48006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46404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la lleva el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vesti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zapatill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rosad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9144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urlz MT"/>
              </a:rPr>
              <a:t>El Ver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8:10:26Z</dcterms:created>
  <dc:creator>kourniotispan</dc:creator>
  <dc:description/>
  <dc:language>en-US</dc:language>
  <cp:lastModifiedBy>kourniotispan</cp:lastModifiedBy>
  <dcterms:modified xsi:type="dcterms:W3CDTF">2013-01-04T18:24:02Z</dcterms:modified>
  <cp:revision>7</cp:revision>
  <dc:subject/>
  <dc:title>Slide 1</dc:title>
</cp:coreProperties>
</file>